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6D9C-5DA5-4CE7-B4E3-2404E2AE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m know that you are talking about Andrew and not Micha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title.  Jackson’s Policy Toward Native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s have many policies.  This chapter is going to be about policies only for Native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his policy be about Native Americans in California?  No.  Had to show a map and have a discussion about 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all tribes.  It’s about the Cherok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heading – Jackson’s Removal Policy, tell your partner what you think the policy is ab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going to move them.  When were they going to move them?  On a tr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make you think this is going to be a difficult journ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kind of strategy that works only when the books you have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ve h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books use cute h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selections by whether they hav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ve headings that support cogn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Toss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6A4-7AD1-4C55-B0B0-792004A8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DBE-D2E1-4BD6-B0D1-A7C957B5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AEF-E81C-4F82-B68F-5D74548D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FC1-8470-4796-868B-9FA9417D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F54-062B-45E3-B2AA-32AD030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6AA-6FB3-4FB7-A6CD-0D112BAB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0AA-F241-477E-A213-ED448992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B1F-93C9-49B3-9903-43F1202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DB5-D375-4B80-BAB1-55A0EAEF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396-394D-467A-A9E1-4F265E7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440-F9B8-47A4-83F4-02EC4352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C26-2442-4DDF-8824-2BB6D8D9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4067-4066-4D2B-AF97-330FB7517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8E8E-A25D-4B59-BAD7-51B44721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, Section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071-FE11-4EF6-9550-CB7B4594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fore Reading - Pre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coal"/>
              </a:rPr>
              <a:t>War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efore you read a chapter or a section of a chapter in your science, social studies, or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ook, Warm-up.   Get an idea of the chapt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s content by pre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thes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b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Questions          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Curriculum Associates, </a:t>
            </a:r>
            <a:r>
              <a:rPr b="0" i="1" lang="en-US" sz="1000" spc="-1" strike="noStrike">
                <a:solidFill>
                  <a:srgbClr val="000000"/>
                </a:solidFill>
                <a:latin typeface="Charcoal"/>
              </a:rPr>
              <a:t>Skills for School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DF1-403B-4C94-8A36-8BD8C860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ECC9-B390-4EE6-BACA-A3859580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9A24-2223-49F8-A80E-E4C7AE321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mov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EC63-C7D3-4BC6-B317-B45279778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mov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l of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CDB-8C39-4AF4-B7AC-1CDFCC7E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Policy Toward Native Americ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n 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mov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l of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9016-31D6-40F2-9C7D-3B8C614E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graph Shri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057400"/>
          <a:ext cx="7086600" cy="463860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463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e who or what.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main person, animal, or thing.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 Tell the most important thing about the  who or what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    Say the main idea in 10 words or less.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cord your main idea sentence.)</a:t>
                      </a:r>
                      <a:br>
                        <a:rPr sz="2400"/>
                      </a:b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0"/>
          <p:cNvSpPr/>
          <p:nvPr/>
        </p:nvSpPr>
        <p:spPr>
          <a:xfrm>
            <a:off x="1265400" y="205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F1E5-D109-4F18-B3E0-E3BF7201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had different opinions about Native Americans in the 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15CB-8760-4C0B-9ECB-B927B1B8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ast tribes had lots of land and adopted white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7B65-392B-42A5-B620-3EF25D27D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Nation prospered in many 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B4D-160B-4554-A55B-E02E2C6D9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cksonian Democracy (first three paragra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BFF4-34AC-4AD5-9641-DC6A42112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rs and miners wanted the land of the Cherok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D4BA-7302-48BF-AC03-5AC751FE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upported moving Native Americans west of Mississipp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1D0-E54E-4F2D-9E9A-680CAFD0C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thought government could tell Native Americans 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AE82-80BD-4677-AF26-99DD79707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passed laws to take land from Native Americ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06D-69D7-42BD-A922-E2FDC581B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protests, the Indian Removal Act passed ordering relo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227-1CF0-4E20-ADF9-7646FD50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aid Native Americans could keep way of lif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360-11A3-4F0D-B71D-DE76EA13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F9EA-9C23-4996-B1E5-8ACD80A6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ed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Ma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0DB-34F3-4267-A8E2-D249C2ED8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ed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ed government controlled by weal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2731-781B-4070-9A0A-AECA5C546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ed Majority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E8F0-CA14-4BC6-99F9-A674F2281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ed Majority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ian 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4D80-C2CF-4A41-92AB-A2BCD28B5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ed Majority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sonian 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ed in 18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1F5C-F9EC-4634-813E-65CBD701C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w Jack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jackson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3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ead last paragraph and determine the 3 issues that Jackson fac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5:02:32Z</dcterms:created>
  <dc:creator>Archer Anita</dc:creator>
  <dc:description/>
  <dc:language>en-US</dc:language>
  <cp:lastModifiedBy>Becky Brandl</cp:lastModifiedBy>
  <dcterms:modified xsi:type="dcterms:W3CDTF">2012-07-20T18:48:38Z</dcterms:modified>
  <cp:revision>5</cp:revision>
  <dc:subject/>
  <dc:title>Jackson’s Policy Toward Native Americans </dc:title>
</cp:coreProperties>
</file>